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png" ContentType="image/png"/>
  <Override PartName="/ppt/media/image25.jpeg" ContentType="image/jpeg"/>
  <Override PartName="/ppt/media/image4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9AE-4D98-4DC3-9EB6-68070FD3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D30-3BE1-45AF-9D08-E426FCCE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D2F-2D83-4D72-981D-AB605ABE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6A6-4372-48A9-9DCE-D83D86DC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D01-716A-4DC0-9EF8-B23C0A5E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71F-165F-4A0B-9E06-4301582E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BAD-F731-479D-925F-8DB75EF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234-A8DC-4593-8051-7B8F50F5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6F5-B583-466E-A848-E34DB251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4D0-823B-4016-9F35-AE438FD8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3F1-5D78-4F90-AFD5-3C9A501D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469-5A15-4AFA-A685-54C00B8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DA43-6449-4E1A-880F-FA6262BF0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ymag.com/nymag/author_25" TargetMode="External"/><Relationship Id="rId2" Type="http://schemas.openxmlformats.org/officeDocument/2006/relationships/hyperlink" Target="http://links.net/" TargetMode="External"/><Relationship Id="rId3" Type="http://schemas.openxmlformats.org/officeDocument/2006/relationships/hyperlink" Target="http://time.blogs.com/daily_dish/" TargetMode="External"/><Relationship Id="rId4" Type="http://schemas.openxmlformats.org/officeDocument/2006/relationships/hyperlink" Target="http://www.gawker.com/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wonkette.com/" TargetMode="External"/><Relationship Id="rId7" Type="http://schemas.openxmlformats.org/officeDocument/2006/relationships/hyperlink" Target="http://www.huffingtonpost.com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hyperlink" Target="http://webquest.sdsu.edu/designpatterns/all.htm" TargetMode="External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edublogs.org/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hyperlink" Target="http://www.eastasiacenter.net/apcampbell/" TargetMode="External"/><Relationship Id="rId8" Type="http://schemas.openxmlformats.org/officeDocument/2006/relationships/hyperlink" Target="http://mywebspace.quinnipiac.edu/PHastings/bac.html" TargetMode="External"/><Relationship Id="rId9" Type="http://schemas.openxmlformats.org/officeDocument/2006/relationships/hyperlink" Target="http://dianesdiscoveries.typepad.com/dianes_discoveries/" TargetMode="External"/><Relationship Id="rId10" Type="http://schemas.openxmlformats.org/officeDocument/2006/relationships/hyperlink" Target="http://www.edublognews.com/" TargetMode="External"/><Relationship Id="rId11" Type="http://schemas.openxmlformats.org/officeDocument/2006/relationships/hyperlink" Target="http://www.ebn.weblogger.com/" TargetMode="External"/><Relationship Id="rId12" Type="http://schemas.openxmlformats.org/officeDocument/2006/relationships/hyperlink" Target="http://bloglines.com/public/wrichard" TargetMode="External"/><Relationship Id="rId13" Type="http://schemas.openxmlformats.org/officeDocument/2006/relationships/hyperlink" Target="http://educational.blogs.com/" TargetMode="External"/><Relationship Id="rId14" Type="http://schemas.openxmlformats.org/officeDocument/2006/relationships/hyperlink" Target="http://educational.blogs.com/manila/" TargetMode="External"/><Relationship Id="rId15" Type="http://schemas.openxmlformats.org/officeDocument/2006/relationships/hyperlink" Target="http://www.downes.ca/" TargetMode="External"/><Relationship Id="rId16" Type="http://schemas.openxmlformats.org/officeDocument/2006/relationships/hyperlink" Target="http://teachable.org/" TargetMode="Externa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3429000" y="2362320"/>
            <a:ext cx="228600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6"/>
          <p:cNvSpPr txBox="1"/>
          <p:nvPr/>
        </p:nvSpPr>
        <p:spPr>
          <a:xfrm>
            <a:off x="3657600" y="2514600"/>
            <a:ext cx="184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classroo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43" name="WordArt 25"/>
          <p:cNvSpPr txBox="1"/>
          <p:nvPr/>
        </p:nvSpPr>
        <p:spPr>
          <a:xfrm>
            <a:off x="3670200" y="3733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personal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44" name="WordArt 26"/>
          <p:cNvSpPr txBox="1"/>
          <p:nvPr/>
        </p:nvSpPr>
        <p:spPr>
          <a:xfrm>
            <a:off x="3670200" y="312408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Helvetica Neue Black Condensed"/>
              </a:rPr>
              <a:t>BLOGGING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45" name="Straight Connector 8"/>
          <p:cNvSpPr/>
          <p:nvPr/>
        </p:nvSpPr>
        <p:spPr>
          <a:xfrm flipH="1" flipV="1">
            <a:off x="3428640" y="1447920"/>
            <a:ext cx="571500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H="1" flipV="1">
            <a:off x="-360" y="5181120"/>
            <a:ext cx="579132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val 13" descr=""/>
          <p:cNvPicPr/>
          <p:nvPr/>
        </p:nvPicPr>
        <p:blipFill>
          <a:blip r:embed="rId1"/>
          <a:stretch/>
        </p:blipFill>
        <p:spPr>
          <a:xfrm>
            <a:off x="5370480" y="4803840"/>
            <a:ext cx="1816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3352680" y="2286000"/>
            <a:ext cx="2438640" cy="20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6"/>
          <p:cNvSpPr txBox="1"/>
          <p:nvPr/>
        </p:nvSpPr>
        <p:spPr>
          <a:xfrm>
            <a:off x="3657600" y="2438280"/>
            <a:ext cx="184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3cddd"/>
                </a:solidFill>
                <a:latin typeface="InaiMathi"/>
              </a:rPr>
              <a:t>personal</a:t>
            </a:r>
            <a:endParaRPr b="0" lang="en-US" sz="1800" spc="1" strike="noStrike">
              <a:ln w="0">
                <a:noFill/>
              </a:ln>
              <a:solidFill>
                <a:srgbClr val="93cddd"/>
              </a:solidFill>
              <a:latin typeface="InaiMathi"/>
              <a:ea typeface="InaiMathi"/>
            </a:endParaRPr>
          </a:p>
        </p:txBody>
      </p:sp>
      <p:sp>
        <p:nvSpPr>
          <p:cNvPr id="93" name="WordArt 25"/>
          <p:cNvSpPr txBox="1"/>
          <p:nvPr/>
        </p:nvSpPr>
        <p:spPr>
          <a:xfrm>
            <a:off x="3670200" y="3733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3cddd"/>
                </a:solidFill>
                <a:latin typeface="InaiMathi"/>
              </a:rPr>
              <a:t>examples</a:t>
            </a:r>
            <a:endParaRPr b="0" lang="en-US" sz="1800" spc="1" strike="noStrike">
              <a:ln w="0">
                <a:noFill/>
              </a:ln>
              <a:solidFill>
                <a:srgbClr val="93cddd"/>
              </a:solidFill>
              <a:latin typeface="InaiMathi"/>
              <a:ea typeface="InaiMathi"/>
            </a:endParaRPr>
          </a:p>
        </p:txBody>
      </p:sp>
      <p:sp>
        <p:nvSpPr>
          <p:cNvPr id="94" name="WordArt 26"/>
          <p:cNvSpPr txBox="1"/>
          <p:nvPr/>
        </p:nvSpPr>
        <p:spPr>
          <a:xfrm>
            <a:off x="3670200" y="3048120"/>
            <a:ext cx="182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Helvetica Neue Black Condensed"/>
              </a:rPr>
              <a:t>BLOGGING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95" name="Straight Connector 5"/>
          <p:cNvSpPr/>
          <p:nvPr/>
        </p:nvSpPr>
        <p:spPr>
          <a:xfrm flipH="1" flipV="1">
            <a:off x="3276720" y="1447920"/>
            <a:ext cx="5867280" cy="1440"/>
          </a:xfrm>
          <a:prstGeom prst="line">
            <a:avLst/>
          </a:prstGeom>
          <a:ln w="57240">
            <a:solidFill>
              <a:srgbClr val="93c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6"/>
          <p:cNvSpPr/>
          <p:nvPr/>
        </p:nvSpPr>
        <p:spPr>
          <a:xfrm flipH="1">
            <a:off x="0" y="518148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val 7" descr=""/>
          <p:cNvPicPr/>
          <p:nvPr/>
        </p:nvPicPr>
        <p:blipFill>
          <a:blip r:embed="rId1"/>
          <a:stretch/>
        </p:blipFill>
        <p:spPr>
          <a:xfrm>
            <a:off x="5443560" y="4797360"/>
            <a:ext cx="18288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BlueRobot2.jpg"/>
          <p:cNvPicPr/>
          <p:nvPr/>
        </p:nvPicPr>
        <p:blipFill>
          <a:blip r:embed="rId1"/>
          <a:srcRect l="0" t="0" r="0" b="3246"/>
          <a:stretch/>
        </p:blipFill>
        <p:spPr>
          <a:xfrm>
            <a:off x="4343400" y="53172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26"/>
          <p:cNvSpPr txBox="1"/>
          <p:nvPr/>
        </p:nvSpPr>
        <p:spPr>
          <a:xfrm rot="21444000">
            <a:off x="6315120" y="1247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Blog??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100" name="WordArt 26"/>
          <p:cNvSpPr txBox="1"/>
          <p:nvPr/>
        </p:nvSpPr>
        <p:spPr>
          <a:xfrm>
            <a:off x="380880" y="380880"/>
            <a:ext cx="3810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@ Home: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pic>
        <p:nvPicPr>
          <p:cNvPr id="101" name="Picture 21" descr="WhyWeBlog.JPG"/>
          <p:cNvPicPr/>
          <p:nvPr/>
        </p:nvPicPr>
        <p:blipFill>
          <a:blip r:embed="rId2"/>
          <a:srcRect l="5074" t="2065" r="5290" b="3098"/>
          <a:stretch/>
        </p:blipFill>
        <p:spPr>
          <a:xfrm>
            <a:off x="380880" y="2362320"/>
            <a:ext cx="3073680" cy="2666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2"/>
          <p:cNvSpPr/>
          <p:nvPr/>
        </p:nvSpPr>
        <p:spPr>
          <a:xfrm>
            <a:off x="304920" y="50292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Keep up with family at hom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abroad, find old friends,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new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228600" y="11430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Chris Garrett of, a Blo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Consultant and UK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Marketing &amp; New Media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Expert says this about th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304920" y="594684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Make a difference in the world, or just pursue your pa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304920" y="6335640"/>
            <a:ext cx="9524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InaiMathi"/>
              </a:rPr>
              <a:t> </a:t>
            </a:r>
            <a:r>
              <a:rPr b="1" lang="en-US" sz="1700" spc="-1" strike="noStrike">
                <a:solidFill>
                  <a:srgbClr val="0070c0"/>
                </a:solidFill>
                <a:latin typeface="InaiMathi"/>
              </a:rPr>
              <a:t>Go on a rant, or as typepad.com says, “develop a position of thought leadership.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val 26" descr=""/>
          <p:cNvPicPr/>
          <p:nvPr/>
        </p:nvPicPr>
        <p:blipFill>
          <a:blip r:embed="rId3"/>
          <a:stretch/>
        </p:blipFill>
        <p:spPr>
          <a:xfrm>
            <a:off x="6059520" y="5108400"/>
            <a:ext cx="1805040" cy="10479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13"/>
          <p:cNvSpPr/>
          <p:nvPr/>
        </p:nvSpPr>
        <p:spPr>
          <a:xfrm>
            <a:off x="4495680" y="5637240"/>
            <a:ext cx="464832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6"/>
          <p:cNvSpPr txBox="1"/>
          <p:nvPr/>
        </p:nvSpPr>
        <p:spPr>
          <a:xfrm rot="21444000">
            <a:off x="5476680" y="8665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70c0"/>
                </a:solidFill>
                <a:latin typeface="InaiMathi"/>
              </a:rPr>
              <a:t>But why would I ever want to</a:t>
            </a:r>
            <a:endParaRPr b="0" lang="en-US" sz="1800" spc="1" strike="noStrike">
              <a:ln w="0">
                <a:noFill/>
              </a:ln>
              <a:solidFill>
                <a:srgbClr val="0070c0"/>
              </a:solidFill>
              <a:latin typeface="InaiMathi"/>
              <a:ea typeface="InaiMath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StoryLinesBlo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GTEnglishBlo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Blogg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2"/>
          <p:cNvSpPr/>
          <p:nvPr/>
        </p:nvSpPr>
        <p:spPr>
          <a:xfrm>
            <a:off x="0" y="-7632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InaiMathi"/>
              </a:rPr>
              <a:t>Wor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28600" y="990720"/>
            <a:ext cx="83059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InaiMathi"/>
              </a:rPr>
              <a:t>Creating a Personal or Classroom Blog</a:t>
            </a: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 – Cyndi Vander 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Blogging Online Resources and Works Cited for PPT Pres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A definition of “blog” (just ONE of many, many...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www.webopedia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* Effortlessly create and manage students blo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* Packed with useful features and customizable the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* Ready made for podcasting, videos, photos and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* Step by step support with our helpful video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www.edublogs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lakeviewreading.edublogs.or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(This was Lakeview Academy’s summer reading blog page with the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InaiMathi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 through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InaiMathi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 grade summer reading assignments, plus an open community blog invitation as 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Blogger’s approach to blogging is very simple:  “A blog is your easy-to-use web site, where you can quickly post thoughts, interact with people, and more. All for FREE.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s://www.blogger.com/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Great blogging ideas for the class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escrapbooking.com/blogging/teaching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WebQuest design patterns (note there’s no “www” in the 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ebquest.sdsu.edu/designpatterns/all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Blogging as a blogging tool for teachers to reflect, as well as communicate with students, parents, or other teachers.  Go to the </a:t>
            </a: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/educators.htm</a:t>
            </a: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 site as well for more teacher resour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escrapbooking.com/blogging/teaching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escrapbooking.com/blogging/educators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Safe email for kids and famil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zoobuh.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See the benefits in blogging for kids in improved writing &amp; editing skills by Sharon Hou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rss-specifications.com/kids-blogging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Children’s Writing Web Jour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write4kids.com/blo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Inform.  Influence.  Inspire. Create collaborative blogs with guest authors.  $4.95/mo. or $49.50/yr. for the Basic servi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www.typepad.com</a:t>
            </a: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On the Gaggle Network teachers control what can be written and who can correspond with the students. Messages with inappropriate words are automatically re-routed to the teacher's account. This allows the teacher to decide whether or not the student gets to see the messa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gaggle.net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The University of Georgia Freshman Composition Program -- &lt;emma&gt; (works with the open source program Open Office—much like Microsoft Word).  Contact Dr. Ron Balthasar for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www.emmalogin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914400" y="533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InaiMathi"/>
              </a:rPr>
              <a:t>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BlueRobot1.jpg"/>
          <p:cNvPicPr/>
          <p:nvPr/>
        </p:nvPicPr>
        <p:blipFill>
          <a:blip r:embed="rId1"/>
          <a:srcRect l="0" t="0" r="0" b="1634"/>
          <a:stretch/>
        </p:blipFill>
        <p:spPr>
          <a:xfrm>
            <a:off x="4419720" y="762120"/>
            <a:ext cx="407016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6"/>
          <p:cNvSpPr txBox="1"/>
          <p:nvPr/>
        </p:nvSpPr>
        <p:spPr>
          <a:xfrm>
            <a:off x="533520" y="144792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Just what IS a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50" name="WordArt 26"/>
          <p:cNvSpPr txBox="1"/>
          <p:nvPr/>
        </p:nvSpPr>
        <p:spPr>
          <a:xfrm>
            <a:off x="1981080" y="198108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Blog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51" name="Line Callout 1 (Border and Accent Bar) 5"/>
          <p:cNvSpPr/>
          <p:nvPr/>
        </p:nvSpPr>
        <p:spPr>
          <a:xfrm flipH="1">
            <a:off x="304200" y="1371600"/>
            <a:ext cx="388620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17" y="14921"/>
                </a:moveTo>
                <a:lnTo>
                  <a:pt x="-1800" y="17433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2514600" y="259092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anyway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228600" y="5334120"/>
            <a:ext cx="89154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6"/>
          <p:cNvSpPr txBox="1"/>
          <p:nvPr/>
        </p:nvSpPr>
        <p:spPr>
          <a:xfrm>
            <a:off x="3276720" y="304920"/>
            <a:ext cx="32763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Blog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pic>
        <p:nvPicPr>
          <p:cNvPr id="55" name="Picture 18" descr="BlogDefinition.JPG"/>
          <p:cNvPicPr/>
          <p:nvPr/>
        </p:nvPicPr>
        <p:blipFill>
          <a:blip r:embed="rId1"/>
          <a:srcRect l="2499" t="3719" r="42502" b="5500"/>
          <a:stretch/>
        </p:blipFill>
        <p:spPr>
          <a:xfrm>
            <a:off x="0" y="18288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WordArt 16"/>
          <p:cNvSpPr txBox="1"/>
          <p:nvPr/>
        </p:nvSpPr>
        <p:spPr>
          <a:xfrm>
            <a:off x="2743200" y="-380880"/>
            <a:ext cx="1143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a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715000" y="137160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InaiMathi"/>
              </a:rPr>
              <a:t>is: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7"/>
          <p:cNvSpPr/>
          <p:nvPr/>
        </p:nvSpPr>
        <p:spPr>
          <a:xfrm flipH="1" flipV="1">
            <a:off x="1599840" y="3731760"/>
            <a:ext cx="5334120" cy="1800"/>
          </a:xfrm>
          <a:prstGeom prst="line">
            <a:avLst/>
          </a:prstGeom>
          <a:ln w="1522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0"/>
          <p:cNvSpPr/>
          <p:nvPr/>
        </p:nvSpPr>
        <p:spPr>
          <a:xfrm>
            <a:off x="0" y="1549440"/>
            <a:ext cx="441972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By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1"/>
              </a:rPr>
              <a:t>Clive Thompson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Published Feb 13, 2006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1994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Swarthmore student Justin Hall creates first blog ever,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2"/>
              </a:rPr>
              <a:t>Links.net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1997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Online diarist Jorn Barger coins the term “Weblog” for “logging the Web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April 1999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Programmer Peter Merholz shortens “Weblog” to “blog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August 1999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Blogger rolls out the first popular, free blog-creation servi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2000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Boing Boing is bor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uly 2000</a:t>
            </a:r>
            <a:br>
              <a:rPr sz="1100"/>
            </a:br>
            <a:r>
              <a:rPr b="1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3"/>
              </a:rPr>
              <a:t>AndrewSullivan.com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 launch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February 2002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Heather Armstrong is fired for discussing her job on her blog, Dooce. “Dooced” becomes a verb: “Fired for blogging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August 2002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Nick Denton launches </a:t>
            </a: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Gizmodo, the first in what will become a blog empire. Blogads launches, the first broker of blog advertis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2002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alking Points Memo highlights Trent Lott’s racially charged comments; thirteen days later, Lott resigns from his post as Senate majority lead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2002</a:t>
            </a:r>
            <a:br>
              <a:rPr sz="1100"/>
            </a:br>
            <a:r>
              <a:rPr b="1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4"/>
              </a:rPr>
              <a:t>Gawker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 launches, igniting the gossip-blog boo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NYTHeadline.JPG"/>
          <p:cNvPicPr/>
          <p:nvPr/>
        </p:nvPicPr>
        <p:blipFill>
          <a:blip r:embed="rId5"/>
          <a:stretch/>
        </p:blipFill>
        <p:spPr>
          <a:xfrm>
            <a:off x="0" y="0"/>
            <a:ext cx="9144000" cy="1525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4648320" y="1600200"/>
            <a:ext cx="449568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March 2003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“Salam Pax,” an anonymous Iraqi blogger, gains worldwide audience during the Iraq w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une 2003</a:t>
            </a:r>
            <a:br>
              <a:rPr sz="1100"/>
            </a:br>
            <a:r>
              <a:rPr b="0" lang="en-US" sz="1100" spc="-1" strike="noStrike">
                <a:solidFill>
                  <a:srgbClr val="ff0000"/>
                </a:solidFill>
                <a:latin typeface="InaiMathi"/>
              </a:rPr>
              <a:t>Google launches AdSense, matching ads to blog cont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August 2003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he first avalanche of ads on political blog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September 2003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Jason Calacanis founds Weblogs, Inc., which eventually grows into a portfolio of 85 blog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2004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Denton launches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6"/>
              </a:rPr>
              <a:t>Wonkette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March 2004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Calacanis poaches Gizmodo writer Peter Rojas from Denton. Denton proclaims himself “royally shafted” on his personal blo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2004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Merriam-Webster declares “blog” the “Word of the Year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2005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Study finds that 32 million Americans read blog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May 2005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he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7"/>
              </a:rPr>
              <a:t>Huffington Post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 launch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October 2005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Calacanis sells his blogs to AOL for $25 mill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2005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An estimated $100 million worth of blog ads are sold this ye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2006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ime leases Andrew Sullivan’s blog, adding it to its Websi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February 2006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he Huffington Post surges to become fourth most-linked-to blo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BlueRobot2.jpg"/>
          <p:cNvPicPr/>
          <p:nvPr/>
        </p:nvPicPr>
        <p:blipFill>
          <a:blip r:embed="rId1"/>
          <a:srcRect l="0" t="0" r="0" b="3246"/>
          <a:stretch/>
        </p:blipFill>
        <p:spPr>
          <a:xfrm>
            <a:off x="0" y="762120"/>
            <a:ext cx="5052960" cy="51051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6"/>
          <p:cNvSpPr txBox="1"/>
          <p:nvPr/>
        </p:nvSpPr>
        <p:spPr>
          <a:xfrm rot="151200">
            <a:off x="1447920" y="1442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Blog??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64" name="WordArt 16"/>
          <p:cNvSpPr txBox="1"/>
          <p:nvPr/>
        </p:nvSpPr>
        <p:spPr>
          <a:xfrm rot="151200">
            <a:off x="609480" y="106200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But what can you do with 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65" name="Straight Connector 11"/>
          <p:cNvSpPr/>
          <p:nvPr/>
        </p:nvSpPr>
        <p:spPr>
          <a:xfrm flipH="1" flipV="1">
            <a:off x="-360" y="5866920"/>
            <a:ext cx="426708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26"/>
          <p:cNvSpPr txBox="1"/>
          <p:nvPr/>
        </p:nvSpPr>
        <p:spPr>
          <a:xfrm>
            <a:off x="4572000" y="22860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In the Classroom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pic>
        <p:nvPicPr>
          <p:cNvPr id="67" name="WordArt 16" descr=""/>
          <p:cNvPicPr/>
          <p:nvPr/>
        </p:nvPicPr>
        <p:blipFill>
          <a:blip r:embed="rId2"/>
          <a:stretch/>
        </p:blipFill>
        <p:spPr>
          <a:xfrm>
            <a:off x="4797360" y="1060560"/>
            <a:ext cx="3743280" cy="701640"/>
          </a:xfrm>
          <a:prstGeom prst="rect">
            <a:avLst/>
          </a:prstGeom>
          <a:ln w="0">
            <a:noFill/>
          </a:ln>
        </p:spPr>
      </p:pic>
      <p:pic>
        <p:nvPicPr>
          <p:cNvPr id="68" name="WordArt 16" descr=""/>
          <p:cNvPicPr/>
          <p:nvPr/>
        </p:nvPicPr>
        <p:blipFill>
          <a:blip r:embed="rId3"/>
          <a:stretch/>
        </p:blipFill>
        <p:spPr>
          <a:xfrm>
            <a:off x="4797360" y="1901880"/>
            <a:ext cx="3975120" cy="927000"/>
          </a:xfrm>
          <a:prstGeom prst="rect">
            <a:avLst/>
          </a:prstGeom>
          <a:ln w="0">
            <a:noFill/>
          </a:ln>
        </p:spPr>
      </p:pic>
      <p:pic>
        <p:nvPicPr>
          <p:cNvPr id="69" name="WordArt 16" descr=""/>
          <p:cNvPicPr/>
          <p:nvPr/>
        </p:nvPicPr>
        <p:blipFill>
          <a:blip r:embed="rId4"/>
          <a:stretch/>
        </p:blipFill>
        <p:spPr>
          <a:xfrm>
            <a:off x="4797360" y="2968560"/>
            <a:ext cx="3975120" cy="774720"/>
          </a:xfrm>
          <a:prstGeom prst="rect">
            <a:avLst/>
          </a:prstGeom>
          <a:ln w="0">
            <a:noFill/>
          </a:ln>
        </p:spPr>
      </p:pic>
      <p:pic>
        <p:nvPicPr>
          <p:cNvPr id="70" name="WordArt 16" descr=""/>
          <p:cNvPicPr/>
          <p:nvPr/>
        </p:nvPicPr>
        <p:blipFill>
          <a:blip r:embed="rId5"/>
          <a:stretch/>
        </p:blipFill>
        <p:spPr>
          <a:xfrm>
            <a:off x="4797360" y="3882960"/>
            <a:ext cx="3822840" cy="622440"/>
          </a:xfrm>
          <a:prstGeom prst="rect">
            <a:avLst/>
          </a:prstGeom>
          <a:ln w="0">
            <a:noFill/>
          </a:ln>
        </p:spPr>
      </p:pic>
      <p:pic>
        <p:nvPicPr>
          <p:cNvPr id="71" name="WordArt 16" descr=""/>
          <p:cNvPicPr/>
          <p:nvPr/>
        </p:nvPicPr>
        <p:blipFill>
          <a:blip r:embed="rId6"/>
          <a:stretch/>
        </p:blipFill>
        <p:spPr>
          <a:xfrm>
            <a:off x="4797360" y="4718160"/>
            <a:ext cx="3438720" cy="469800"/>
          </a:xfrm>
          <a:prstGeom prst="rect">
            <a:avLst/>
          </a:prstGeom>
          <a:ln w="0">
            <a:noFill/>
          </a:ln>
        </p:spPr>
      </p:pic>
      <p:sp>
        <p:nvSpPr>
          <p:cNvPr id="72" name="WordArt 16"/>
          <p:cNvSpPr txBox="1"/>
          <p:nvPr/>
        </p:nvSpPr>
        <p:spPr>
          <a:xfrm>
            <a:off x="4800600" y="5334120"/>
            <a:ext cx="220968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17375e"/>
                </a:solidFill>
                <a:latin typeface="InaiMathi"/>
              </a:rPr>
              <a:t> </a:t>
            </a:r>
            <a:r>
              <a:rPr b="1" lang="en-US" sz="7200" spc="1" strike="noStrike">
                <a:ln w="0">
                  <a:noFill/>
                </a:ln>
                <a:solidFill>
                  <a:srgbClr val="17375e"/>
                </a:solidFill>
                <a:latin typeface="InaiMathi"/>
              </a:rPr>
              <a:t>Teacher Collaboration</a:t>
            </a:r>
            <a:endParaRPr b="1" lang="en-US" sz="7200" spc="1" strike="noStrike">
              <a:ln w="0">
                <a:noFill/>
              </a:ln>
              <a:solidFill>
                <a:srgbClr val="17375e"/>
              </a:solidFill>
              <a:latin typeface="InaiMathi"/>
              <a:ea typeface="InaiMathi"/>
            </a:endParaRPr>
          </a:p>
        </p:txBody>
      </p:sp>
      <p:pic>
        <p:nvPicPr>
          <p:cNvPr id="73" name="WordArt 1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97360" y="5711760"/>
            <a:ext cx="4127400" cy="927000"/>
          </a:xfrm>
          <a:prstGeom prst="rect">
            <a:avLst/>
          </a:prstGeom>
          <a:ln w="0">
            <a:noFill/>
          </a:ln>
        </p:spPr>
      </p:pic>
      <p:pic>
        <p:nvPicPr>
          <p:cNvPr id="74" name="Oval 24" descr=""/>
          <p:cNvPicPr/>
          <p:nvPr/>
        </p:nvPicPr>
        <p:blipFill>
          <a:blip r:embed="rId9"/>
          <a:stretch/>
        </p:blipFill>
        <p:spPr>
          <a:xfrm>
            <a:off x="7736040" y="523800"/>
            <a:ext cx="18288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3429000" y="2362320"/>
            <a:ext cx="228600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3657600" y="2514600"/>
            <a:ext cx="184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classroo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77" name="WordArt 25"/>
          <p:cNvSpPr txBox="1"/>
          <p:nvPr/>
        </p:nvSpPr>
        <p:spPr>
          <a:xfrm>
            <a:off x="3670200" y="3733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example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78" name="WordArt 26"/>
          <p:cNvSpPr txBox="1"/>
          <p:nvPr/>
        </p:nvSpPr>
        <p:spPr>
          <a:xfrm>
            <a:off x="3670200" y="312408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Helvetica Neue Black Condensed"/>
              </a:rPr>
              <a:t>BLOGGING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79" name="Straight Connector 5"/>
          <p:cNvSpPr/>
          <p:nvPr/>
        </p:nvSpPr>
        <p:spPr>
          <a:xfrm flipH="1" flipV="1">
            <a:off x="3428640" y="1447920"/>
            <a:ext cx="571500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6"/>
          <p:cNvSpPr/>
          <p:nvPr/>
        </p:nvSpPr>
        <p:spPr>
          <a:xfrm flipH="1" flipV="1">
            <a:off x="-360" y="5181120"/>
            <a:ext cx="579132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val 7" descr=""/>
          <p:cNvPicPr/>
          <p:nvPr/>
        </p:nvPicPr>
        <p:blipFill>
          <a:blip r:embed="rId1"/>
          <a:stretch/>
        </p:blipFill>
        <p:spPr>
          <a:xfrm>
            <a:off x="5370480" y="4803840"/>
            <a:ext cx="1816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Zoobuh.JPG"/>
          <p:cNvPicPr/>
          <p:nvPr/>
        </p:nvPicPr>
        <p:blipFill>
          <a:blip r:embed="rId1"/>
          <a:stretch/>
        </p:blipFill>
        <p:spPr>
          <a:xfrm>
            <a:off x="152280" y="228600"/>
            <a:ext cx="3733920" cy="1082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aggle.JPG"/>
          <p:cNvPicPr/>
          <p:nvPr/>
        </p:nvPicPr>
        <p:blipFill>
          <a:blip r:embed="rId2"/>
          <a:stretch/>
        </p:blipFill>
        <p:spPr>
          <a:xfrm>
            <a:off x="6248520" y="4572000"/>
            <a:ext cx="2620800" cy="18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Blogger.JPG"/>
          <p:cNvPicPr/>
          <p:nvPr/>
        </p:nvPicPr>
        <p:blipFill>
          <a:blip r:embed="rId3"/>
          <a:stretch/>
        </p:blipFill>
        <p:spPr>
          <a:xfrm>
            <a:off x="6172200" y="152280"/>
            <a:ext cx="2666880" cy="206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Edblog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97760" y="2362320"/>
            <a:ext cx="2641320" cy="198108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5"/>
          <p:cNvSpPr/>
          <p:nvPr/>
        </p:nvSpPr>
        <p:spPr>
          <a:xfrm flipH="1" flipV="1">
            <a:off x="-360" y="1676520"/>
            <a:ext cx="335268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val 6" descr=""/>
          <p:cNvPicPr/>
          <p:nvPr/>
        </p:nvPicPr>
        <p:blipFill>
          <a:blip r:embed="rId6"/>
          <a:stretch/>
        </p:blipFill>
        <p:spPr>
          <a:xfrm>
            <a:off x="2859120" y="1371600"/>
            <a:ext cx="1816200" cy="1054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52280" y="1752480"/>
            <a:ext cx="5943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ampbell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eastasiacenter.net/apcampbell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 the influence of Epoche (blogging about blogging in educa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gging Across the Curriculum 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mywebspace.quinnipiac.edu/PHastings/bac.htm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on integrating blogs into the college classro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ne's Discoverie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dianesdiscoveries.typepad.com/dianes_discoveries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ce general education news and ide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BlogNew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edublognews.com/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links to many student blog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ional Blogger's Network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ebn.weblogger.com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g of educators using blogs in the classro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or Blogline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bloglines.com/public/wrichar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logs in educ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Blogger Praxi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educational.blogs.com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 of educator blogs online. Go to Manila Education to learn more about using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Manil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en Downe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http://www.downes.ca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l-known educational writer, consultant, and blogg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able.com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://teachable.org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at resources for educational technology and blogg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logg-ed - The Read/Write Web in the Classroom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weblogg-ed.com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logs in education hosted by Will Richardson, supervisor of instructional technology and communications at Hunterdon Central Regional High School in Flemington, New Jersey. He's used blogs with his journalism stud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LVARead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em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1:51:51Z</dcterms:created>
  <dc:creator>bruce.montgomery;Cyndi.Vander_Ven</dc:creator>
  <dc:description/>
  <dc:language>en-US</dc:language>
  <cp:lastModifiedBy>bruce.montgomery</cp:lastModifiedBy>
  <dcterms:modified xsi:type="dcterms:W3CDTF">2008-07-24T10:17:02Z</dcterms:modified>
  <cp:revision>113</cp:revision>
  <dc:subject/>
  <dc:title>Slide 1</dc:title>
</cp:coreProperties>
</file>